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1D10-7330-4E25-876D-AABCF64A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C4E-8B9B-48CB-8529-C1E4B19F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900-35F4-4A20-9BDF-26E3D5F4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6DC-5A60-4213-8D41-B86BA948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839-C5D4-40F6-8011-CC6B409D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32A-2324-4A23-A7AE-BB83A542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443-8967-45A7-86DE-FE5C6A53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1F3-9977-4873-B5BF-F1F0C9D1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380-5AC1-4D7C-A2DE-8D2E6D0C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577-3F79-41C4-9508-FD27CC1B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20F-4B1B-4702-B1A0-665980F5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204-8063-4C92-8FF2-8F7F0054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B16A-DF4C-48B5-BEC7-D01BD8147671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7e7ff"/>
                </a:solidFill>
                <a:latin typeface="Arial"/>
              </a:rPr>
              <a:t>El Discurso Or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3699000" y="1581120"/>
            <a:ext cx="1654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s una forma de acción entre las persona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que disponen de un repertorio comunica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Lengua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= la materia primera del discurso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ofrece  a quienes la us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una serie de opciones que los interlocu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ueden eleg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el momento de interactu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acias al desarrollo de tecnología y medios de comunicación audiovisuales ha habido un cambio en los canales por los cuales puede circular el habla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recto: por teléfono, interfon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ferido: radio, televisión, grabación de cintas audio o ví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b7e7ff"/>
                </a:solidFill>
                <a:latin typeface="Arial"/>
              </a:rPr>
              <a:t>conversación espontáne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s la forma primera y primaria de la oralida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Suele tener un alto grado de espontaneidad, indefinición, improvisación e imprevisibilida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No obstante, los interlocutores tienen que ponerse de acuer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Briz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stingue en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conversaciones prototíp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conversaciones perifér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b7e7ff"/>
                </a:solidFill>
                <a:latin typeface="Arial"/>
              </a:rPr>
              <a:t>conversación </a:t>
            </a:r>
            <a:r>
              <a:rPr b="0" i="1" lang="es-ES" sz="4400" spc="-1" strike="noStrike" u="sng">
                <a:solidFill>
                  <a:srgbClr val="b7e7ff"/>
                </a:solidFill>
                <a:uFillTx/>
                <a:latin typeface="Arial"/>
              </a:rPr>
              <a:t>prototípic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No es preparada sino improvisada , es  informal, de tema cotidiano, entre igua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(Ej: entre vecinos que hablan de las fiestas en su cal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conversación </a:t>
            </a:r>
            <a:r>
              <a:rPr b="0" lang="es-ES" sz="4400" spc="-1" strike="noStrike" u="sng">
                <a:solidFill>
                  <a:srgbClr val="b7e7ff"/>
                </a:solidFill>
                <a:uFillTx/>
                <a:latin typeface="Arial"/>
              </a:rPr>
              <a:t>periférica</a:t>
            </a: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n que faltan algunos de los elementos antedich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Ej: conversación entre medico y pacient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b7e7ff"/>
                </a:solidFill>
                <a:uFillTx/>
                <a:latin typeface="Arial"/>
              </a:rPr>
              <a:t>Turnos de palab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quién toma la palabra, cuántas veces, de qué maner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portan informaciones muy útiles sobre los papeles comunicativos de cada participante, las relaciones de poder o de solidaridad, la distancia social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mímic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 cumplir una función complementaria, por ejemplo, enfátic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 ser vehículo informativo, (caso de los sordomudo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auxiliar emotivo e importante, del lenguaje o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Características de la mímic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uso regular de gestos faciales y manua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personas, cuando hablan, hacen gesticulaciones tanto informativas como expresi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ando es el único vehículo para la comunicación, (caso de los sordomudos), pierde su carácter emotivo para adquirir un sentido informa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El </a:t>
            </a:r>
            <a:r>
              <a:rPr b="0" lang="es-ES" sz="4400" spc="-1" strike="noStrike" u="sng">
                <a:solidFill>
                  <a:srgbClr val="b7e7ff"/>
                </a:solidFill>
                <a:uFillTx/>
                <a:latin typeface="Arial"/>
              </a:rPr>
              <a:t>lenguaje or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sulta mucho más completo que el mím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icula los sonidos con otro elemento complementario,, l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nton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l tono de su voz ayuda a conocer el  estado de ánimo del habla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ojo, entusiasmo,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risteza, alegría, dolor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7e7ff"/>
                </a:solidFill>
                <a:latin typeface="Arial"/>
              </a:rPr>
              <a:t>Otras práticas discursivas orales</a:t>
            </a:r>
            <a:r>
              <a:rPr b="0" lang="it-IT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bate polític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mitido en direc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rmalmente se negocia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stribución de cada participante en el espacio, organización del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rden de los turnos, temas, actuación del moderad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b7e7ff"/>
                </a:solidFill>
                <a:uFillTx/>
                <a:latin typeface="Verdana"/>
              </a:rPr>
              <a:t>La elección se realiza en base a unos parámetros contextuales: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tuació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pósitos de quien la re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racterísticas de los destina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on dinámicos y pueden estar sujetos a revisión, negociación y camb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prácticas discursivas “monogestionadas” (conferencia)</a:t>
            </a:r>
            <a:r>
              <a:rPr b="0" lang="it-IT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quien pronuncia la conferencia es el único que tiene el derecho y el deber de hab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ha preparado con tiempo la exposición, calculando el tiempo que tiene a disposición , ha seleccionado el tema y puede apoyarse en un texto escrit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mbién un evento monogestionado puede ser interactiv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audiencia manifiesta con miradas, gestos, sonrisas, bostezos sus reacciones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l hablante debe tener en cuenta estas manifes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7e7ff"/>
                </a:solidFill>
                <a:latin typeface="Arial"/>
              </a:rPr>
              <a:t>La adquisición de la competencia oral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aprende a hablar desde la infancia, como parte de un proceso de socialización. Usar una lengua nos permite participar el la vida social, aprendiendo los varios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juegos de lenguaj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mpetencia comunicativa es aprender los comportamientos verbales y no verbales de la lengu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7e7ff"/>
                </a:solidFill>
                <a:latin typeface="Arial"/>
              </a:rPr>
              <a:t>Elementos no verbales de la oralidad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estos, posturas, calidad de la voz, distancia entre las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producen de forma más o menos mecánica y tienen un papel comunicativo muy import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7e7ff"/>
                </a:solidFill>
                <a:latin typeface="Arial"/>
              </a:rPr>
              <a:t>Proxem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era en qué los participantes se apropian del del lugar del espacio comunicativo y  distancia entre los particip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distancia puede variar por varios motivos. Un participante puede acercarse a otro para susurrar, mostrar intimidad, asustar.., del mismo modo puede alejar para marcar distancia social, gritar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distancia depende mucho del tipo de even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demás varía según las cult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7e7ff"/>
                </a:solidFill>
                <a:latin typeface="Arial"/>
              </a:rPr>
              <a:t>Cinésic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udio de los movimientos corporales comunicativamente significativ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mos distinguir entre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gestos, posturas y maneras. (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tayos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gestos pueden sustituir la palabra, repetir o concretar su significado, hacernos sentir más a gusto o manifestar nuestra incomodid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ueden variar según el tipo de evento,  el grupo social y de una cultura o ot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posición y la conducta que adoptamos frente a nuestro interlocutor hace entender nuestra participación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lgunas conductas se consideran cálidas (o sea acogedoras) otras frí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ver p.5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7e7ff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 en parte una característica fisiológica y en parte se puede modu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mos utilizar “vocalizaciones” (ruidos o sonidos que salen por la boca) para asentir, mostrar desacuerdo o impaciencia, pedir la palabra.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mente se producen en combinación con gestos faciales o del cuerp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 interpretación equivocada puede ser forma de malentend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-23144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7e7ff"/>
                </a:solidFill>
                <a:latin typeface="Arial"/>
              </a:rPr>
              <a:t>Características linguístico – textuales del discurso or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81440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1. Nivel Fónico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o de los primeros aspectos es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onunciación,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de la cual hay 4 tipos de varieda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alectos geográf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alectos so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gistros (variedad situac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ilo (variedad individu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nunciad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=unidad básica de un discurso  realizado por un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nunciado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y dirigido a un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nunciatari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ás enunciados forman tex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textos pueden ser muy breves o muy extens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texto tanto el anuncio “Se vende piso”, como una carta, una conversación, un artículo de periód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osodi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(entonación, intensidad, ritmo) es otro aspecto específico de la ora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2. Nivel morfosintáctico: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aría según el tipo de event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 servir también como marcador del registro que se utiliza: menor complejidad = registro coloquial; mayor complejidad= registro más formal y cul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b7e7ff"/>
                </a:solidFill>
                <a:uFillTx/>
                <a:latin typeface="Arial"/>
              </a:rPr>
              <a:t>Nivel léxico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rve para variar registro , tono, final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 ser un indicador de las características socioculturales de los participant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dica la pertenencia a un grupo (argots juveniles, jergas de la delincuencia, lenguaje médico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b7e7ff"/>
                </a:solidFill>
                <a:latin typeface="Arial"/>
              </a:rPr>
              <a:t>Diálogo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s la forma más típica de la oralidad. Es una “acción entre individuo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s secuencias básicas del diálogo 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cio- Desarrollo – Fi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parte central es el elemento más flex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Análisis de un debate tipo “talk show”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puede dividir en tres dimens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terlocutiva – Tematica – Enuncia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ffff"/>
                </a:solidFill>
                <a:uFillTx/>
                <a:latin typeface="Arial"/>
              </a:rPr>
              <a:t>Dimensión Interlocutiva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refiere a la manera de tomar la palabra y de pasar el turn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s útil para entender el papel comunicativo  desarrollado por los particip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ffff"/>
                </a:solidFill>
                <a:uFillTx/>
                <a:latin typeface="Arial"/>
              </a:rPr>
              <a:t>Dimensión Temát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s la actuación de 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terlocutores respecto al tema elegido, 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ipo de contribución y el papel de l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terlocutores respecto a la propue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ffff"/>
                </a:solidFill>
                <a:uFillTx/>
                <a:latin typeface="Arial"/>
              </a:rPr>
              <a:t>Dimensión Enunciativ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refiere a la posición de los interlocutores respecto a lo que dicen y a los recursos discursivo-textuales us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ver ejemplo p. 66-6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400" spc="-1" strike="noStrike" u="sng">
              <a:solidFill>
                <a:srgbClr val="b7e7ff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do texto es un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Hech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un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vent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omunicativo, que necesita de la palabra para realiza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lenguaje humano se materializa a través de dos medios: medio oral y escrito, que dan lugar a dos modalidades de realización: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Oralidad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scritur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b7e7ff"/>
                </a:solidFill>
                <a:uFillTx/>
                <a:latin typeface="Arial"/>
              </a:rPr>
              <a:t>Modalidad Or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natural y constitutiva de la persona como miembro de una espec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produce en y con el cuer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tiliza también movimientos corporales y expresiones fac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b7e7ff"/>
                </a:solidFill>
                <a:uFillTx/>
                <a:latin typeface="Arial"/>
              </a:rPr>
              <a:t>Modalidad Escrit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vento del ser humano, se aprende como un artificio y utiliza el soporte de elementos materia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en la actualidad el bolígrafo o el ordenador, en la antiguedad la piedra o la arcill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240" y="3573360"/>
            <a:ext cx="34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7e7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971640" y="1680120"/>
            <a:ext cx="7198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lgunas manifestaciones comunic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orales no son natur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conferencia, sermón, discurso inaugural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sde esta perspectiva tanto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odalidad escrita como la o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on el resultado de la interacción en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actores biológicos y cultur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oralidad cumple también funciones estéticas y lúdicas: mitos, leyendas , chistes, refranes tienen un origen oral y sólo posteriormente se han trasladado a la escritura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rasgos </a:t>
            </a:r>
            <a:r>
              <a:rPr b="0" lang="es-ES" sz="2800" spc="-1" strike="noStrike">
                <a:solidFill>
                  <a:srgbClr val="b7e7ff"/>
                </a:solidFill>
                <a:latin typeface="Verdana"/>
              </a:rPr>
              <a:t>de la Enunciación Oral </a:t>
            </a:r>
            <a:r>
              <a:rPr b="0" lang="es-ES" sz="2800" spc="-1" strike="noStrike" u="sng">
                <a:solidFill>
                  <a:srgbClr val="b7e7ff"/>
                </a:solidFill>
                <a:uFillTx/>
                <a:latin typeface="Verdana"/>
              </a:rPr>
              <a:t>Prototípica</a:t>
            </a: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ticipación simultánea de los Interlocut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esencia simultánea de los interlocutores, que participan cara a car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interlocutores activan y negocian en la Interacción una relación interpers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8:10:52Z</dcterms:created>
  <dc:creator>User</dc:creator>
  <dc:description/>
  <dc:language>en-US</dc:language>
  <cp:lastModifiedBy>Lau</cp:lastModifiedBy>
  <dcterms:modified xsi:type="dcterms:W3CDTF">2011-10-28T11:27:27Z</dcterms:modified>
  <cp:revision>24</cp:revision>
  <dc:subject/>
  <dc:title>Diapositiva 1</dc:title>
</cp:coreProperties>
</file>